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53A88-4332-4F7F-B102-3F8EB6DD3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142A-FEB2-4629-B2CE-31C282D4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4B285-1ADA-4FB4-974E-1AE3AD46D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D662E-BFCC-4997-9F7C-C9591EEC9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BBB1-065D-426D-BA78-2E05EDA0C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9782-8B66-427B-A616-FCB6EECB2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7BBBE-0A01-4A97-BB7B-FDA0D733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F47EB-3EDA-4127-B94E-35EEB2B89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1693-DABD-4858-B689-8FEECDE32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5396-F924-444A-9DB9-43DB86313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F402-00D9-4DE0-911D-9BF2DE243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D8FF-DCD0-47D6-8332-26BB70D89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9198-EDF5-4AEB-B965-58C662EB9D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images.bcphotoshare.com/storages/367542/large.jpg&amp;imgrefurl=http://www.bcphotoshare.com/photos/78308/367542&amp;usg=__Z0zMtmO2iEphIapJcNuzOEAWOsE=&amp;h=480&amp;w=320&amp;sz=30&amp;hl=en&amp;start=18&amp;tbnid=WlaDkb3huv_f2M:&amp;tbnh=129&amp;tbnw=86&amp;prev=/images%3Fq%3Dstage%2Bon%2Bfire%26gbv%3D2%26hl%3Den%26safe%3Dstrict"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0"/>
            <a:ext cx="8991720" cy="6743880"/>
          </a:xfrm>
          <a:prstGeom prst="rect">
            <a:avLst/>
          </a:prstGeom>
          <a:ln w="0">
            <a:noFill/>
          </a:ln>
        </p:spPr>
      </p:pic>
      <p:sp>
        <p:nvSpPr>
          <p:cNvPr id="42"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3ebf1"/>
                </a:solidFill>
                <a:latin typeface="Old English Text MT"/>
              </a:rPr>
              <a:t>Theatre</a:t>
            </a:r>
            <a:endParaRPr b="0" lang="en-US" sz="6600" spc="-1" strike="noStrike">
              <a:solidFill>
                <a:srgbClr val="e3ebf1"/>
              </a:solidFill>
              <a:latin typeface="Arial"/>
            </a:endParaRPr>
          </a:p>
        </p:txBody>
      </p:sp>
      <p:sp>
        <p:nvSpPr>
          <p:cNvPr id="43" name=""/>
          <p:cNvSpPr/>
          <p:nvPr/>
        </p:nvSpPr>
        <p:spPr>
          <a:xfrm>
            <a:off x="2438280" y="19051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2514600" y="3200400"/>
            <a:ext cx="403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ld English Text MT"/>
              </a:rPr>
              <a:t>Detrick, Nancy and Sean </a:t>
            </a:r>
            <a:endParaRPr b="0" lang="en-US" sz="2800" spc="-1" strike="noStrike">
              <a:solidFill>
                <a:srgbClr val="ffffff"/>
              </a:solidFill>
              <a:latin typeface="Arial"/>
            </a:endParaRPr>
          </a:p>
        </p:txBody>
      </p:sp>
      <p:sp>
        <p:nvSpPr>
          <p:cNvPr id="45" name=""/>
          <p:cNvSpPr/>
          <p:nvPr/>
        </p:nvSpPr>
        <p:spPr>
          <a:xfrm>
            <a:off x="1981080" y="4191120"/>
            <a:ext cx="5181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Old English Text MT"/>
              </a:rPr>
              <a:t>Fighting on Stage</a:t>
            </a:r>
            <a:endParaRPr b="0" lang="en-US" sz="4400" spc="-1" strike="noStrike">
              <a:solidFill>
                <a:srgbClr val="ffffff"/>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bf1"/>
                </a:solidFill>
                <a:latin typeface="comic"/>
              </a:rPr>
              <a:t>slogan</a:t>
            </a:r>
            <a:endParaRPr b="0" lang="en-US" sz="48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ld English Text MT"/>
              </a:rPr>
              <a:t>Safe stage fighting do you need anything else</a:t>
            </a:r>
            <a:endParaRPr b="0" lang="en-US" sz="4800" spc="-1" strike="noStrike">
              <a:solidFill>
                <a:srgbClr val="ffffff"/>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6629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a:rPr>
              <a:t>The end</a:t>
            </a:r>
            <a:endParaRPr b="0" lang="en-US" sz="9600" spc="-1" strike="noStrike">
              <a:solidFill>
                <a:srgbClr val="e3ebf1"/>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14400" y="838080"/>
            <a:ext cx="7250040" cy="5562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omic"/>
              </a:rPr>
              <a:t>The Society of American fight Director</a:t>
            </a:r>
            <a:endParaRPr b="0" lang="en-US" sz="4400" spc="-1" strike="noStrike">
              <a:solidFill>
                <a:srgbClr val="e3ebf1"/>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a:rPr>
              <a:t>History of stage fighting</a:t>
            </a:r>
            <a:endParaRPr b="0" lang="en-US" sz="48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700"/>
              </a:spcBef>
              <a:buClr>
                <a:srgbClr val="ccff33"/>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ff33"/>
                </a:solidFill>
                <a:latin typeface="Andy"/>
              </a:rPr>
              <a:t>in January 1990, film legends Douglas Fairbanks, Jr. and Stuart Granger were inducted as honorary SAFD members. In July 1990 the first SAFD Advanced Actor Combatant Workshop took place.</a:t>
            </a:r>
            <a:endParaRPr b="0" lang="en-US" sz="2800" spc="-1" strike="noStrike">
              <a:solidFill>
                <a:srgbClr val="ffffff"/>
              </a:solidFill>
              <a:latin typeface="Arial"/>
            </a:endParaRPr>
          </a:p>
          <a:p>
            <a:pPr marL="291600" indent="-291600">
              <a:lnSpc>
                <a:spcPct val="80000"/>
              </a:lnSpc>
              <a:spcBef>
                <a:spcPts val="700"/>
              </a:spcBef>
              <a:buClr>
                <a:srgbClr val="ccff33"/>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ff33"/>
                </a:solidFill>
                <a:latin typeface="Andy"/>
              </a:rPr>
              <a:t>The AACW was designed and taught by J. Allen Suddeth and Erik Fredricksen, and focused on advanced techniques. "The SAFD is moving ahead," reported new president Suddeth in the Fall '90 issue of The Fight Master, the first under new editor Margaret Raether. The Fight Master moved to twice-yearly schedule, with the Cutting Edge published six times per year. 1990 also saw the first attempts to represent the SAFD on a local level. Eight representatives were selected to help distribute information to the membership.</a:t>
            </a:r>
            <a:endParaRPr b="0" lang="en-US" sz="2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590920" y="990720"/>
            <a:ext cx="6321240" cy="54878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comic"/>
              </a:rPr>
              <a:t>Why its important not to fight on stage</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8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a:rPr>
              <a:t>People can get hurt</a:t>
            </a:r>
            <a:endParaRPr b="0" lang="en-US" sz="3200" spc="-1" strike="noStrike">
              <a:solidFill>
                <a:srgbClr val="ffffff"/>
              </a:solidFill>
              <a:latin typeface="Arial"/>
            </a:endParaRPr>
          </a:p>
          <a:p>
            <a:pPr marL="343080" indent="-343080">
              <a:lnSpc>
                <a:spcPct val="100000"/>
              </a:lnSpc>
              <a:spcBef>
                <a:spcPts val="799"/>
              </a:spcBef>
              <a:buClr>
                <a:srgbClr val="008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a:rPr>
              <a:t>Can mess up the play</a:t>
            </a:r>
            <a:endParaRPr b="0" lang="en-US" sz="3200" spc="-1" strike="noStrike">
              <a:solidFill>
                <a:srgbClr val="ffffff"/>
              </a:solidFill>
              <a:latin typeface="Arial"/>
            </a:endParaRPr>
          </a:p>
          <a:p>
            <a:pPr marL="343080" indent="-343080">
              <a:lnSpc>
                <a:spcPct val="100000"/>
              </a:lnSpc>
              <a:spcBef>
                <a:spcPts val="799"/>
              </a:spcBef>
              <a:buClr>
                <a:srgbClr val="008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a:rPr>
              <a:t>Get in trouble</a:t>
            </a:r>
            <a:endParaRPr b="0" lang="en-US" sz="3200" spc="-1" strike="noStrike">
              <a:solidFill>
                <a:srgbClr val="ffffff"/>
              </a:solidFill>
              <a:latin typeface="Arial"/>
            </a:endParaRPr>
          </a:p>
          <a:p>
            <a:pPr marL="343080" indent="-343080">
              <a:lnSpc>
                <a:spcPct val="100000"/>
              </a:lnSpc>
              <a:spcBef>
                <a:spcPts val="799"/>
              </a:spcBef>
              <a:buClr>
                <a:srgbClr val="008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a:rPr>
              <a:t>Pointless</a:t>
            </a:r>
            <a:endParaRPr b="0" lang="en-US" sz="3200" spc="-1" strike="noStrike">
              <a:solidFill>
                <a:srgbClr val="ffffff"/>
              </a:solidFill>
              <a:latin typeface="Arial"/>
            </a:endParaRPr>
          </a:p>
          <a:p>
            <a:pPr marL="343080" indent="-343080">
              <a:lnSpc>
                <a:spcPct val="100000"/>
              </a:lnSpc>
              <a:spcBef>
                <a:spcPts val="799"/>
              </a:spcBef>
              <a:buClr>
                <a:srgbClr val="008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a:rPr>
              <a:t>Mess up the stage</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comic"/>
              </a:rPr>
              <a:t>How fighting effects theatre</a:t>
            </a:r>
            <a:endParaRPr b="0" lang="en-US" sz="4800" spc="-1" strike="noStrike">
              <a:solidFill>
                <a:srgbClr val="e3ebf1"/>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a:rPr>
              <a:t>People then wouldn’t want TO be in theatre</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629400"/>
          </a:xfrm>
          <a:prstGeom prst="rect">
            <a:avLst/>
          </a:prstGeom>
          <a:ln w="0">
            <a:noFill/>
          </a:ln>
        </p:spPr>
      </p:pic>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0000"/>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Old English Text MT"/>
              </a:rPr>
              <a:t>Detrick-Power point</a:t>
            </a:r>
            <a:endParaRPr b="0" lang="en-US" sz="4400" spc="-1" strike="noStrike">
              <a:solidFill>
                <a:srgbClr val="ffffff"/>
              </a:solidFill>
              <a:latin typeface="Arial"/>
            </a:endParaRPr>
          </a:p>
          <a:p>
            <a:pPr marL="343080" indent="-343080" algn="ctr">
              <a:lnSpc>
                <a:spcPct val="100000"/>
              </a:lnSpc>
              <a:spcBef>
                <a:spcPts val="1100"/>
              </a:spcBef>
              <a:buClr>
                <a:srgbClr val="ff0000"/>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Old English Text MT"/>
              </a:rPr>
              <a:t>Nancy-Look up stuff</a:t>
            </a:r>
            <a:endParaRPr b="0" lang="en-US" sz="4400" spc="-1" strike="noStrike">
              <a:solidFill>
                <a:srgbClr val="ffffff"/>
              </a:solidFill>
              <a:latin typeface="Arial"/>
            </a:endParaRPr>
          </a:p>
          <a:p>
            <a:pPr marL="343080" indent="-343080" algn="ctr">
              <a:lnSpc>
                <a:spcPct val="100000"/>
              </a:lnSpc>
              <a:spcBef>
                <a:spcPts val="1100"/>
              </a:spcBef>
              <a:buClr>
                <a:srgbClr val="ff0000"/>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Old English Text MT"/>
              </a:rPr>
              <a:t>Sean-Look up stuff</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a:hlinkClick r:id="rId1"/>
          </p:cNvPr>
          <p:cNvPicPr/>
          <p:nvPr/>
        </p:nvPicPr>
        <p:blipFill>
          <a:blip r:embed="rId2"/>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omic"/>
              </a:rPr>
              <a:t>theatre</a:t>
            </a:r>
            <a:endParaRPr b="0" lang="en-US" sz="4800" spc="-1" strike="noStrike">
              <a:solidFill>
                <a:srgbClr val="e3ebf1"/>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1199"/>
              </a:spcBef>
              <a:buClr>
                <a:srgbClr val="ffff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a:rPr>
              <a:t>Fighting</a:t>
            </a:r>
            <a:endParaRPr b="0" lang="en-US" sz="4800" spc="-1" strike="noStrike">
              <a:solidFill>
                <a:srgbClr val="ffffff"/>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5:28:01Z</dcterms:created>
  <dc:creator> </dc:creator>
  <dc:description/>
  <dc:language>en-US</dc:language>
  <cp:lastModifiedBy> </cp:lastModifiedBy>
  <dcterms:modified xsi:type="dcterms:W3CDTF">2009-09-17T15:41:41Z</dcterms:modified>
  <cp:revision>7</cp:revision>
  <dc:subject/>
  <dc:title>Theatre</dc:title>
</cp:coreProperties>
</file>